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2DDA-C0A1-4932-A169-DDC3AEA4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393-8458-4E0C-BF48-F675A656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7EC-75B3-47A3-B6F0-528AED4D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940-3126-43D5-86A4-789D6EF3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ECD6-AAFE-4F6A-9C6E-AAFE60ED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315-C28A-4669-B540-25DA9274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23F-687F-4D29-B135-CF906B30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D93-6B57-45BB-B761-94857663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F0CE-C842-40BA-97DF-865C5648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BDA6-240B-46D3-8294-D1B64620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79E7-46DB-430D-9BE2-6E23D03B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14C5-9886-4625-A6DC-240EC2E9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554C-F3E5-4D15-9D9C-DEFD89266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4120" y="216000"/>
            <a:ext cx="23702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040" y="782640"/>
            <a:ext cx="859464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Get the packet by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Sit anywhere...for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Begin to fill out the “Who I Am”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Please hurry. We use time well in this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43160" y="3013200"/>
            <a:ext cx="4743360" cy="356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4572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EXPECT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75040" y="318960"/>
            <a:ext cx="5151240" cy="110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12920" y="322200"/>
            <a:ext cx="1709640" cy="1108080"/>
          </a:xfrm>
          <a:prstGeom prst="roundRect">
            <a:avLst>
              <a:gd name="adj" fmla="val 50000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03320" y="291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65400" y="246384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5400" y="662940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5400" y="55879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65400" y="454644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65400" y="35035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4838760"/>
            <a:ext cx="50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4. BE A PARTICIP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7972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3. BE PREPA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17146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1. BE PRES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27558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2. BE PROMP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58816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5. BE POL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82880" y="317520"/>
            <a:ext cx="4419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ITEMS EVERYDAY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90720" y="228600"/>
            <a:ext cx="6235200" cy="6400800"/>
            <a:chOff x="990720" y="228600"/>
            <a:chExt cx="6235200" cy="6400800"/>
          </a:xfrm>
        </p:grpSpPr>
        <p:sp>
          <p:nvSpPr>
            <p:cNvPr id="60" name=""/>
            <p:cNvSpPr/>
            <p:nvPr/>
          </p:nvSpPr>
          <p:spPr>
            <a:xfrm>
              <a:off x="2075400" y="318960"/>
              <a:ext cx="5150520" cy="1108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12920" y="321480"/>
              <a:ext cx="1709640" cy="1108080"/>
            </a:xfrm>
            <a:prstGeom prst="roundRect">
              <a:avLst>
                <a:gd name="adj" fmla="val 50000"/>
              </a:avLst>
            </a:prstGeom>
            <a:solidFill>
              <a:srgbClr val="96969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0720" y="228600"/>
              <a:ext cx="2317320" cy="14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64680" y="2463120"/>
              <a:ext cx="5061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64680" y="6629400"/>
              <a:ext cx="5061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64680" y="5587200"/>
              <a:ext cx="5061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64680" y="4546440"/>
              <a:ext cx="5061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64680" y="3503880"/>
              <a:ext cx="5061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108160" y="4838760"/>
            <a:ext cx="50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4. LAB NOTE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08160" y="37972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3. PEN/PENC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08160" y="1714680"/>
            <a:ext cx="525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1. NOTEBOOK/BI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08160" y="27558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2. CALCULA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08160" y="58816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5. REVIEW 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03320" y="291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895480" y="317520"/>
            <a:ext cx="4419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BATHROOM PASS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75040" y="318960"/>
            <a:ext cx="5151240" cy="110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12920" y="322200"/>
            <a:ext cx="1709640" cy="1108080"/>
          </a:xfrm>
          <a:prstGeom prst="roundRect">
            <a:avLst>
              <a:gd name="adj" fmla="val 50000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2860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03320" y="291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81360" y="2209680"/>
            <a:ext cx="438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ATEGO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87640" y="2058840"/>
            <a:ext cx="5151240" cy="110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25520" y="2062080"/>
            <a:ext cx="1709640" cy="1108080"/>
          </a:xfrm>
          <a:prstGeom prst="roundRect">
            <a:avLst>
              <a:gd name="adj" fmla="val 50000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03320" y="196848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78000" y="42037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78000" y="628668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78000" y="524340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0760" y="553716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20%  HW &amp; C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0760" y="345456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60%  QUIZ/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0760" y="44956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20%  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5920" y="2031840"/>
            <a:ext cx="231768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19520" y="901800"/>
            <a:ext cx="44193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LAB PERIODS FOR REGENTS EXAM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38088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03320" y="21207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14400" y="762120"/>
            <a:ext cx="6240600" cy="1971720"/>
            <a:chOff x="914400" y="762120"/>
            <a:chExt cx="6240600" cy="1971720"/>
          </a:xfrm>
        </p:grpSpPr>
        <p:sp>
          <p:nvSpPr>
            <p:cNvPr id="94" name=""/>
            <p:cNvSpPr/>
            <p:nvPr/>
          </p:nvSpPr>
          <p:spPr>
            <a:xfrm>
              <a:off x="2069640" y="762120"/>
              <a:ext cx="508536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27240" y="1191960"/>
              <a:ext cx="1713960" cy="1110240"/>
            </a:xfrm>
            <a:prstGeom prst="roundRect">
              <a:avLst>
                <a:gd name="adj" fmla="val 50000"/>
              </a:avLst>
            </a:prstGeom>
            <a:solidFill>
              <a:srgbClr val="96969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14400" y="1188360"/>
              <a:ext cx="2323080" cy="14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990720" y="3765600"/>
            <a:ext cx="6219720" cy="1971720"/>
            <a:chOff x="990720" y="3765600"/>
            <a:chExt cx="6219720" cy="1971720"/>
          </a:xfrm>
        </p:grpSpPr>
        <p:sp>
          <p:nvSpPr>
            <p:cNvPr id="98" name=""/>
            <p:cNvSpPr/>
            <p:nvPr/>
          </p:nvSpPr>
          <p:spPr>
            <a:xfrm>
              <a:off x="2126520" y="3765600"/>
              <a:ext cx="508392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84120" y="4195800"/>
              <a:ext cx="1713960" cy="1109880"/>
            </a:xfrm>
            <a:prstGeom prst="roundRect">
              <a:avLst>
                <a:gd name="adj" fmla="val 50000"/>
              </a:avLst>
            </a:prstGeom>
            <a:solidFill>
              <a:srgbClr val="96969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90720" y="4093560"/>
              <a:ext cx="2322360" cy="14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939960" y="117144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03320" y="4152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1/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30600" y="3911760"/>
            <a:ext cx="44193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EIGHT OF REGENTS EXAM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990720" y="3765600"/>
            <a:ext cx="6219720" cy="1971720"/>
            <a:chOff x="990720" y="3765600"/>
            <a:chExt cx="6219720" cy="1971720"/>
          </a:xfrm>
        </p:grpSpPr>
        <p:sp>
          <p:nvSpPr>
            <p:cNvPr id="105" name=""/>
            <p:cNvSpPr/>
            <p:nvPr/>
          </p:nvSpPr>
          <p:spPr>
            <a:xfrm>
              <a:off x="2126520" y="3765600"/>
              <a:ext cx="508392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84120" y="4195800"/>
              <a:ext cx="1713960" cy="1109880"/>
            </a:xfrm>
            <a:prstGeom prst="roundRect">
              <a:avLst>
                <a:gd name="adj" fmla="val 50000"/>
              </a:avLst>
            </a:prstGeom>
            <a:solidFill>
              <a:srgbClr val="96969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90720" y="4093560"/>
              <a:ext cx="2322360" cy="14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965160" y="41781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30600" y="3911760"/>
            <a:ext cx="4419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GRADE FOR CHEATING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992160" y="942840"/>
            <a:ext cx="6219720" cy="1971720"/>
            <a:chOff x="992160" y="942840"/>
            <a:chExt cx="6219720" cy="1971720"/>
          </a:xfrm>
        </p:grpSpPr>
        <p:sp>
          <p:nvSpPr>
            <p:cNvPr id="111" name=""/>
            <p:cNvSpPr/>
            <p:nvPr/>
          </p:nvSpPr>
          <p:spPr>
            <a:xfrm>
              <a:off x="2127960" y="942840"/>
              <a:ext cx="508392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85560" y="1373040"/>
              <a:ext cx="1713960" cy="1109880"/>
            </a:xfrm>
            <a:prstGeom prst="roundRect">
              <a:avLst>
                <a:gd name="adj" fmla="val 50000"/>
              </a:avLst>
            </a:prstGeom>
            <a:solidFill>
              <a:srgbClr val="96969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1270800"/>
              <a:ext cx="2322360" cy="14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66960" y="13557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32040" y="1089000"/>
            <a:ext cx="44197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ASSIGNMENTS ACCEPTED LATE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9640" y="1190520"/>
            <a:ext cx="80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WHA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IS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PHYSICS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1:35:13Z</dcterms:created>
  <dc:creator>Frank Noschese</dc:creator>
  <dc:description/>
  <dc:language>en-US</dc:language>
  <cp:lastModifiedBy>Frank Noschese</cp:lastModifiedBy>
  <dcterms:modified xsi:type="dcterms:W3CDTF">2008-09-03T00:43:36Z</dcterms:modified>
  <cp:revision>15</cp:revision>
  <dc:subject/>
  <dc:title>Slide 1</dc:title>
</cp:coreProperties>
</file>